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6D7-AE0E-4BD3-8B1C-C24248B3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84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880" y="4693680"/>
            <a:ext cx="95284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4BA-C15A-48E6-AC54-53046050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288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556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C0A-2E03-417A-A660-4296A4A5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4520" y="182880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16160" y="182880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2880" y="469368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4520" y="469368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16160" y="469368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6DE-9CF1-4B1A-9F2D-BC633E1C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2880" y="1828800"/>
            <a:ext cx="95284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DDF-74E7-45FA-A9D3-D3A8B7C2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84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DB2-52EF-4D86-BC7A-96A5048D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CCC-FDB0-4BE4-8D6C-FDE1F634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606-C359-48F3-AE23-7CD94BDB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0" y="228240"/>
            <a:ext cx="68547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7AB-26DA-4205-9752-4F36D759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288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504-8831-4D7A-ADFB-1132C88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556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665-F1D1-45D2-9905-74FFDEBA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2880" y="4693680"/>
            <a:ext cx="95284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6C1-A926-4DBD-AC59-79B751DF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 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880" y="1828800"/>
            <a:ext cx="95284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63640" indent="-28728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5280" indent="-215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7280" indent="-21600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8920" indent="-215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8920" indent="-215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8920" indent="-215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B2C86-AF69-4D1B-A442-A5D4026FE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08000" y="157320"/>
            <a:ext cx="2697120" cy="66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christian.schaller@collabora.co.uk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1138320"/>
            <a:ext cx="95979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GStreamer: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What's new ?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99520" y="3657240"/>
            <a:ext cx="9069480" cy="26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  <a:ea typeface="Arial"/>
              </a:rPr>
              <a:t>Christian F.K. Schaller (christian.schaller@collabora.co.uk)</a:t>
            </a:r>
            <a:r>
              <a:rPr b="0" lang="en-GB" sz="3200" spc="-1" strike="noStrike">
                <a:solidFill>
                  <a:srgbClr val="000000"/>
                </a:solidFill>
                <a:latin typeface="Bitstream Vera Serif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43164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Intelligent Download Buffer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Visual feedback of download progres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ntelligent pausing if network can not keep up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Quicktime/YouTube sty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Qtopia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Qt and Qtopia integrated support through Phono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rovides subset of GStreamer functionalit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OpenMax Support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GStreamer Integration with OpenMax I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Next talk in this room on this subjec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OpenGL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New gst-plugins-gl modu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OpenGL based video output (xvimagesink replacement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ush video into Clutter etc. 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Enable video processing on the GPU in a GStreamer pipelin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Any OpenGL video filter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Dirac Video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Encoder and Decoder available for GStream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reated by the BBC Research and Innovatio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Royalty free codec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Heading for VC-2 standardisatio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86200" y="5943600"/>
            <a:ext cx="594360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DVB Support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DVB-T, DVB-S, DVB-C tested and confirmed working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ATSC still to be don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Deinterlacing, MHEG, scanning still to be don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DVB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82296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Browser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HTML5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ebKi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Firefox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573360" y="2725560"/>
            <a:ext cx="5811840" cy="43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6856560" cy="23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Improved Platform Support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Solaris (OSSv4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indows (native codec loading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MacOSX (native codec loading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DLNA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oherence DLNA framewor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Hoping to soon have working transcoding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lient support components in plac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Summary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hat's new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hat's being worked o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Codecs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Lots of available codec implementations for GStream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OpenMax – GstOpenMax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ntel IPP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TI DaVinci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Fluend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ollabora (Integration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Farsight2 and Telepathy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ntegrated VOIP and videoconferencing toolki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SIP, Gtalk and other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Many to man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57600" y="5257800"/>
            <a:ext cx="6335640" cy="20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6856560" cy="23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Various New Embedded Related Plugins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Neonhttp, libsoup plugin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DirectFB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HAL plugin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Mpegparse, mpaudiopars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Core and -base: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what's coming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erformance quer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More buffering/network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nterlacing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Fast metadata typefin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lugin presets interfac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QA System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New advanced QA system under developmen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ill let you automatically run extensive automated tests to reduce risk of regression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GStreamer and Mobile Platforms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LiM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GP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Maem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OpenMok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LiP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Android (working on it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Or contact me on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christian.schaller@collabora.co.uk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http://www.collabora.co.uk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Collabora Multimedia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125244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6840" y="2514600"/>
            <a:ext cx="8942400" cy="30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8000"/>
          </a:bodyPr>
          <a:p>
            <a:pPr marL="423000" indent="-31716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orld Leading experts on GStreamer, Telepathy, DLNA, OpenMax and GTK+ Webki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23000" indent="-31716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Global reach with offices in Cambridge UK, Montreal Canada and Barcelona Spai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23000" indent="-31716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Established track record with customers such as Nokia and OLPC 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3400" y="5257800"/>
            <a:ext cx="55324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GStreamer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Generic Multimedia Framewor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LGPL licensed cor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De-facto standar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ross Platform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Licensing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Trying to make things eas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lugins-modules: Base, Good, Bad, Ugl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GStreamer Design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ipeline based desig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lose to 200 plugins availab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Not just playbac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3600" y="4800600"/>
            <a:ext cx="40561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Core: what's new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2880" y="182844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RTP desig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Latency API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ross-platform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(Network) buffering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Playbin2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Autoplugg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Encoded outpu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mproved HD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Decodebin2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Faster, more versatile, better memory usage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RTP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laybin2 with full RTSP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RTP stack popular (Axis, Tandberg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indows Media, Real Media, MPEG, Ogg 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dward Hervey</dc:creator>
  <dc:description/>
  <dc:language>en-US</dc:language>
  <cp:lastModifiedBy>Christian Schaller</cp:lastModifiedBy>
  <cp:revision>0</cp:revision>
  <dc:subject/>
  <dc:title/>
</cp:coreProperties>
</file>